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867-416B-4879-BD02-18DD0F2F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13E-C192-4B8D-BBAB-79CDF82E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4FC-4E7F-474D-963E-D623F324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534-F8CF-4513-843F-7DD8F37E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AE0C-E40C-4E4C-BF41-D0CF613B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9600-6BB3-4003-BB3F-2C651E1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B278-860B-43C7-B1CF-82EFF158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5FF6-EADF-4F4C-B452-EF031BC4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1D23-5D09-4F1D-9322-03760EEC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6B8-DC7F-4B68-B0E5-C665E5CE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F7AA-CF07-4CDC-AC28-78F0B83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B5C-6FA7-4BC7-B823-EFA10ABE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866-C1C3-4442-95B1-2A50BD9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38EF-75CC-4F59-B95D-0CD0746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7704-DEF3-4C98-96B7-79054ADD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1635-76C1-41BF-8327-7D8DC845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82A-9989-44BA-9E06-E0714756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67B-A71D-4109-B296-ADF4BD20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EEC-E5EE-4C0C-B54C-2EA04E04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34B-CF6A-4DCF-A418-D014F55B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61F9-F20F-4D39-BB9E-4DF66EEA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C55-A4A2-42C3-AFCC-68FA98E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02A-26F2-48F1-8505-D4CC248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F8A-6D22-4399-A156-83360CC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CE0A-17FB-4275-BF64-F8B68B1D05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6F9-9324-496C-8AB5-CA40FE6C2F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echnology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PS T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ites.fcps.org/t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Pixie (Use on Promethean Board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3" descr="pixie1"/>
          <p:cNvPicPr/>
          <p:nvPr/>
        </p:nvPicPr>
        <p:blipFill>
          <a:blip r:embed="rId1"/>
          <a:stretch/>
        </p:blipFill>
        <p:spPr>
          <a:xfrm>
            <a:off x="228600" y="1295280"/>
            <a:ext cx="723888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Pixie (additional features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5800" y="2057400"/>
            <a:ext cx="79246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xt to Spee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rd your vo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slidesh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nt in  multiple forma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5716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-books, trading cards, et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5716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Times New Roman"/>
              </a:rPr>
              <a:t>Discovery Streaming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304920" y="1905120"/>
            <a:ext cx="5105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videos, clip art, images, sound effects, less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z Builder to create assessments for student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ve At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eacher has a license – talk to your media specialist to get the code to sign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3508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"/>
          <p:cNvPicPr/>
          <p:nvPr/>
        </p:nvPicPr>
        <p:blipFill>
          <a:blip r:embed="rId1"/>
          <a:srcRect l="0" t="0" r="45835" b="0"/>
          <a:stretch/>
        </p:blipFill>
        <p:spPr>
          <a:xfrm>
            <a:off x="228600" y="1828800"/>
            <a:ext cx="34671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ad Plea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 rot="10800000">
            <a:off x="685800" y="4571640"/>
            <a:ext cx="380880" cy="1523880"/>
          </a:xfrm>
          <a:prstGeom prst="upArrow">
            <a:avLst>
              <a:gd name="adj1" fmla="val 50000"/>
              <a:gd name="adj2" fmla="val 10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2057400" y="4038480"/>
            <a:ext cx="380880" cy="1524240"/>
          </a:xfrm>
          <a:prstGeom prst="upArrow">
            <a:avLst>
              <a:gd name="adj1" fmla="val 50000"/>
              <a:gd name="adj2" fmla="val 100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readplease"/>
          <p:cNvPicPr/>
          <p:nvPr/>
        </p:nvPicPr>
        <p:blipFill>
          <a:blip r:embed="rId2"/>
          <a:stretch/>
        </p:blipFill>
        <p:spPr>
          <a:xfrm>
            <a:off x="4191120" y="1523880"/>
            <a:ext cx="4543200" cy="506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udacit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rcRect l="0" t="0" r="47130" b="35250"/>
          <a:stretch/>
        </p:blipFill>
        <p:spPr>
          <a:xfrm>
            <a:off x="0" y="1886040"/>
            <a:ext cx="3505320" cy="321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AutoShape 6"/>
          <p:cNvSpPr/>
          <p:nvPr/>
        </p:nvSpPr>
        <p:spPr>
          <a:xfrm>
            <a:off x="380880" y="4038480"/>
            <a:ext cx="381240" cy="1524240"/>
          </a:xfrm>
          <a:prstGeom prst="upArrow">
            <a:avLst>
              <a:gd name="adj1" fmla="val 50000"/>
              <a:gd name="adj2" fmla="val 9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28800" y="3200400"/>
            <a:ext cx="380880" cy="1523880"/>
          </a:xfrm>
          <a:prstGeom prst="upArrow">
            <a:avLst>
              <a:gd name="adj1" fmla="val 50000"/>
              <a:gd name="adj2" fmla="val 1000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9" descr="audacity"/>
          <p:cNvPicPr/>
          <p:nvPr/>
        </p:nvPicPr>
        <p:blipFill>
          <a:blip r:embed="rId2"/>
          <a:stretch/>
        </p:blipFill>
        <p:spPr>
          <a:xfrm>
            <a:off x="3809880" y="1828800"/>
            <a:ext cx="4953240" cy="41990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838080" y="5638680"/>
            <a:ext cx="2210040" cy="838440"/>
          </a:xfrm>
          <a:custGeom>
            <a:avLst/>
            <a:gdLst>
              <a:gd name="textAreaLeft" fmla="*/ 54360 w 2210040"/>
              <a:gd name="textAreaRight" fmla="*/ 2155680 w 2210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20" h="21600">
                <a:moveTo>
                  <a:pt x="0" y="0"/>
                </a:moveTo>
                <a:lnTo>
                  <a:pt x="56920" y="0"/>
                </a:lnTo>
                <a:lnTo>
                  <a:pt x="56920" y="21600"/>
                </a:lnTo>
                <a:lnTo>
                  <a:pt x="0" y="21600"/>
                </a:lnTo>
                <a:close/>
              </a:path>
              <a:path fill="lightenLess" w="56920" h="21600">
                <a:moveTo>
                  <a:pt x="0" y="0"/>
                </a:moveTo>
                <a:lnTo>
                  <a:pt x="56920" y="0"/>
                </a:lnTo>
                <a:lnTo>
                  <a:pt x="55520" y="1400"/>
                </a:lnTo>
                <a:lnTo>
                  <a:pt x="1400" y="1400"/>
                </a:lnTo>
                <a:close/>
              </a:path>
              <a:path fill="darken" w="56920" h="21600">
                <a:moveTo>
                  <a:pt x="56920" y="0"/>
                </a:moveTo>
                <a:lnTo>
                  <a:pt x="56920" y="21600"/>
                </a:lnTo>
                <a:lnTo>
                  <a:pt x="55520" y="20200"/>
                </a:lnTo>
                <a:lnTo>
                  <a:pt x="55520" y="1400"/>
                </a:lnTo>
                <a:close/>
              </a:path>
              <a:path fill="darkenLess" w="56920" h="21600">
                <a:moveTo>
                  <a:pt x="56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20" y="20200"/>
                </a:lnTo>
                <a:close/>
              </a:path>
              <a:path fill="lighten" w="56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hoto Story – digital pic slideshow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47130" b="35250"/>
          <a:stretch/>
        </p:blipFill>
        <p:spPr>
          <a:xfrm>
            <a:off x="0" y="1886040"/>
            <a:ext cx="3505320" cy="321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AutoShape 5"/>
          <p:cNvSpPr/>
          <p:nvPr/>
        </p:nvSpPr>
        <p:spPr>
          <a:xfrm>
            <a:off x="380880" y="4038480"/>
            <a:ext cx="381240" cy="1524240"/>
          </a:xfrm>
          <a:prstGeom prst="upArrow">
            <a:avLst>
              <a:gd name="adj1" fmla="val 50000"/>
              <a:gd name="adj2" fmla="val 99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828800" y="3581280"/>
            <a:ext cx="380880" cy="1524240"/>
          </a:xfrm>
          <a:prstGeom prst="upArrow">
            <a:avLst>
              <a:gd name="adj1" fmla="val 50000"/>
              <a:gd name="adj2" fmla="val 100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title photostory"/>
          <p:cNvPicPr/>
          <p:nvPr/>
        </p:nvPicPr>
        <p:blipFill>
          <a:blip r:embed="rId2"/>
          <a:stretch/>
        </p:blipFill>
        <p:spPr>
          <a:xfrm>
            <a:off x="3809880" y="1905120"/>
            <a:ext cx="4619880" cy="3487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9" name="TextBox 1"/>
          <p:cNvSpPr/>
          <p:nvPr/>
        </p:nvSpPr>
        <p:spPr>
          <a:xfrm>
            <a:off x="990720" y="5791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tudents can record their voices over pictures instead of ty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In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(Grades 6-12)</a:t>
            </a:r>
            <a:br>
              <a:rPr sz="4000"/>
            </a:br>
            <a:r>
              <a:rPr b="0" lang="en-US" sz="2400" spc="-1" strike="noStrike">
                <a:solidFill>
                  <a:srgbClr val="420000"/>
                </a:solidFill>
                <a:latin typeface="Times New Roman"/>
              </a:rPr>
              <a:t>Brainstorm with RapidFire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1" name="Picture 4" descr="inspiration desert"/>
          <p:cNvPicPr/>
          <p:nvPr/>
        </p:nvPicPr>
        <p:blipFill>
          <a:blip r:embed="rId1"/>
          <a:stretch/>
        </p:blipFill>
        <p:spPr>
          <a:xfrm>
            <a:off x="1295280" y="1981080"/>
            <a:ext cx="56390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(K-8 in schools)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3" name="Picture 5" descr="kidspiration2"/>
          <p:cNvPicPr/>
          <p:nvPr/>
        </p:nvPicPr>
        <p:blipFill>
          <a:blip r:embed="rId1"/>
          <a:stretch/>
        </p:blipFill>
        <p:spPr>
          <a:xfrm>
            <a:off x="609480" y="1227240"/>
            <a:ext cx="7696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5" name="Picture 4" descr="kidsir4"/>
          <p:cNvPicPr/>
          <p:nvPr/>
        </p:nvPicPr>
        <p:blipFill>
          <a:blip r:embed="rId1"/>
          <a:stretch/>
        </p:blipFill>
        <p:spPr>
          <a:xfrm>
            <a:off x="457200" y="1320840"/>
            <a:ext cx="75438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04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Kidspiration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457200" y="19051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lking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xt-to-spee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ctionary fe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0000"/>
                </a:solidFill>
                <a:uFillTx/>
                <a:latin typeface="Times New Roman"/>
              </a:rPr>
              <a:t>Pixie (Imagination Suite)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: 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1" name="Picture 4" descr="sdfkjsdkjfskdj"/>
          <p:cNvPicPr/>
          <p:nvPr/>
        </p:nvPicPr>
        <p:blipFill>
          <a:blip r:embed="rId1"/>
          <a:stretch/>
        </p:blipFill>
        <p:spPr>
          <a:xfrm>
            <a:off x="533520" y="125748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8:35:04Z</dcterms:created>
  <dc:creator>fcps</dc:creator>
  <dc:description/>
  <dc:language>en-US</dc:language>
  <cp:lastModifiedBy>Journell-Hoch,Cindy D</cp:lastModifiedBy>
  <dcterms:modified xsi:type="dcterms:W3CDTF">2012-04-25T18:55:17Z</dcterms:modified>
  <cp:revision>10</cp:revision>
  <dc:subject/>
  <dc:title>New Software! Oh, my!</dc:title>
</cp:coreProperties>
</file>